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BD4-E451-4C5B-B0A4-7E5284B3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554-B1BC-47A9-A9F4-6B0AA3C5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2AF-4335-40EC-9ABF-EC73CD5C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635-C7B2-477C-ADF7-1310DC79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9AE-BD0F-4120-8DBB-74C64877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73EA-4206-444C-AFD5-2900E223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7AAC-514F-41C0-BC32-E9EB91BB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0A8-469D-4E83-A25F-EF227B0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29A3-AD69-4031-8729-39405F91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0DE0-4C33-4924-A223-D77E4039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1851-76A3-4FFB-A7E5-2D89908C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C90-AE03-42A5-91DA-A17037F6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F7E6-F5EB-4D38-88EE-B49B711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7945-35D8-470D-B7B9-B14E1BB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3B8-6F65-45EF-84EB-6C266567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9050-4D2C-487A-89E6-6D1D4684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B798-32E2-4094-8982-A28D05E7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404-AEDE-4757-A784-5161D2C9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754-15EE-4C76-91E7-6F6A44DD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3BC-A91C-4B16-BA7D-41453DA3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71C-DCAD-4CEC-ABA0-8845C016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DE2-9F40-439E-B73A-71550A8F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4DD-FDBC-48CE-9821-8880BEFE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C31-8518-442A-9874-805205C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719C-A8CA-4247-B924-C82B5C638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F881-A4A7-4BD4-AA5E-EA0C9A338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080" y="463680"/>
            <a:ext cx="7759440" cy="90792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EEO 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- a fair go for al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awareness - part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orts of changes have happened in society to make us more aware of the need for EE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have these changes in society affected the workpla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groups in society have suffered discrimination in the past? H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ur thinking kept up with the changes in socie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discrimination be wastefu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you understand the difference between Anti-discrimination and Affirmative A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is covered by Anti-discrimination law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discrimination always intention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would sexual and a racial discrimination happen in the following situations: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a job is advertis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deciding the necessary qualifications/crite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viewing &amp; deciding who get the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ting job titles and classif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ranging training courses for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ting up paths of promotion in the compa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you think of examples of policies/practices which make it harder for women to get a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96840" y="277920"/>
            <a:ext cx="7759800" cy="93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Book Antiqua"/>
              </a:rPr>
              <a:t>EEO - a fair go for 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ould you describe sexual harassm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sexual harassment only apply to men pressuring wom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women get a hard time when they enter traditionally male jo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you think racial discrimination occurs in the workplace in the 199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you believe that there are jobs that can not be done equally done by women and m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96840" y="277920"/>
            <a:ext cx="7759800" cy="93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Book Antiqua"/>
              </a:rPr>
              <a:t>EEO - a fair go for 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o focus on the nature of sexual ha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 would you describe the feelings and the reaction of the women in this vide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oes it make a difference if the behaviour happens once or is repeat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 would you explain sexual harassment to people in your workpla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s a supervisor, what responsibilities do you have to prevent sexual harassm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o improve the organisations response to sexual harassment, your group should draft a Policy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996840" y="353880"/>
            <a:ext cx="7759800" cy="63036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Book Antiqua"/>
              </a:rPr>
              <a:t>Leave me alone - sexual harass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7T14:43:36Z</dcterms:created>
  <dc:creator>Illawarra Institute of Technology</dc:creator>
  <dc:description/>
  <dc:language>en-US</dc:language>
  <cp:lastModifiedBy>John McDonald</cp:lastModifiedBy>
  <cp:lastPrinted>1998-08-17T14:53:44Z</cp:lastPrinted>
  <dcterms:modified xsi:type="dcterms:W3CDTF">2000-04-28T03:41:28Z</dcterms:modified>
  <cp:revision>4</cp:revision>
  <dc:subject/>
  <dc:title>EEO - a fair go for all</dc:title>
</cp:coreProperties>
</file>